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913-9552-46E6-B512-DB06C965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532-5822-4615-9AAD-48F048B5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8D4-EAAF-4395-8429-D14E4E83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48F-5179-438F-8EF4-7799CF74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1E8-4E4B-4B9C-840E-1551C7CA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721-1D62-4473-9631-481B1802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9DC-942F-4E88-810B-95B7A895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717-1D5B-4707-B938-EA2370B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F55-2B0C-41A4-816A-5F2D7DAE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6C0-DD96-48A9-8513-2386438B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4B9-AFEA-4137-B174-163AAF6B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04E-B5DC-45F7-8845-4C89484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219F-7AED-41FF-BDD2-ECDB55244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pirc@fndfl.or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edl.org/connections/resources/evidence.pdf" TargetMode="External"/><Relationship Id="rId2" Type="http://schemas.openxmlformats.org/officeDocument/2006/relationships/hyperlink" Target="http://www.sedl.org/connections/resources/evidence.pdf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dl.org/pubs/library_community.html" TargetMode="External"/><Relationship Id="rId2" Type="http://schemas.openxmlformats.org/officeDocument/2006/relationships/hyperlink" Target="http://www.sedl.org/pubs/library_community.html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edl.org/connections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d.gov/admins/comm/parents/parentinvolve/report_pg7.html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92520" cy="555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4114800"/>
            <a:ext cx="4038480" cy="238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Family Network on Disabilities of Florida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2735 Whitney Road Clearwater, Florida 33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Phone: (727) 523-1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oll free: (800) 825-86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E-mail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pirc@fndfl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Website: www.fndfl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1358640" cy="219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45720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mpact of Family and Community Involvement on Student Achie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8D7-7B06-41C6-A688-43154B2938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887200"/>
            <a:ext cx="77724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findings were tr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amilies across demograph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su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858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3320" y="20574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Across Demographics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609-FD7C-4B8C-A220-B7AA2006A4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Benefit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point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s on standardize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07F-CE6E-46D3-8AF0-8754E2BBB6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an engaged parent i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in itself a guarantee of hig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achiev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Key Characteristic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expec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curricu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y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leader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3520" y="1676520"/>
            <a:ext cx="62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No Substitute for Good Tea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93E-BAE7-4206-A110-E8854030BF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147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and interventions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families in supporting thei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’s learning at home are link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igher student achievemen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2960" y="2438280"/>
            <a:ext cx="58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Schools Can Make a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A8B-2A38-400F-B32F-D3B3219DAD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31237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families support their children’s learning and educational progress (through the years) the more their children tend to do well in school and continue their educati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2096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Cumulativ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4D4-5F29-4981-9548-23440E4CDF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3048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es of all cultural background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, and income levels encour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children, talk with them about school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hem plan for higher education, and k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 focused on learning and homework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.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240" y="2209680"/>
            <a:ext cx="41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ALL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Types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BC7-6011-4F34-9E8A-173D8F23D1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241-7024-4DD5-8331-536EA1F7F9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2895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that successfully conn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amilies and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 involve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elcoming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specific parents and community needs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 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8480" y="213372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On the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385-B2EB-4E86-AB47-107EDF9C65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274320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involvement is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ents think they are supposed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’ confidence in their ability to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perception that the school &amp; child want them to b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2280" y="1981080"/>
            <a:ext cx="50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WHY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Parents Get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thleen Hoover-Dempsey &amp; Howard Sandler (1997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A72-C982-43D4-A34E-456BDA2164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nfluences choices about “how” 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self-perception (skills, ability,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s on time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, teacher/school specific suggestions and invitations fo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thleen Hoover-Dempsey &amp; Howard Sandler (1997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5600" y="1981080"/>
            <a:ext cx="50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HOW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Parents Are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B65-8BE2-4E9C-A2E8-2A7FA49EC1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40976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Center for Family &amp; Commun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with School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west Educational Development Laboratory</a:t>
            </a:r>
            <a:br>
              <a:rPr sz="2400"/>
            </a:b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New Wave of Evidence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act of School, Family, and Community Connections on Student Achievement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Synthesis 2002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e T. Henderson &amp; Karen L. Mapp</a:t>
            </a:r>
            <a:br>
              <a:rPr sz="2400"/>
            </a:br>
            <a:br>
              <a:rPr sz="2400"/>
            </a:b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edl.org/connections/resources/evidenc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F82-0C92-4580-B031-441DA11123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6705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ment of parents from economically distressed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own education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parents’ involvement when they were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beliefs about famil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dens of family responsibilities/tim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ren Mapp (200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11480" y="167652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Economically Distressed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4C6-6007-4072-B4C3-6D5CAF06CD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334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ren Mapp (200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819520"/>
            <a:ext cx="6705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FACTORS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chool staff engage in caring and trusting relationships with parents that recognize parents as partners in the educational development of children, these relationships enhance parents’ desire to be involved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p.4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0160" y="178272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Economically Distressed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001-3908-4B01-9626-D2D3CA80E5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257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aren Mapp (200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819520"/>
            <a:ext cx="6705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FACTORS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 by which relationships were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or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with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ing proc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0160" y="178272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Economically Distressed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BB4-379B-483D-AECB-CB92959915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290680"/>
            <a:ext cx="82296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involvement progra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are effective in engaging diverse families recognize, respect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cultural and class differenc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20968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Diverse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9C3-9178-4B6E-904E-7BC555411E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s to invol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es from different cultur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ocial backg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cultu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personal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arm environment for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structural accommo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Strategies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E7C-D7A0-4DD6-A282-E88DAC49A7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0F5-633E-4632-8BF3-0C56D25F5C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Organiz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base of parents/residents wh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in action to address schoo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ing on change in schools us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zation, direct action, negotiating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democratic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leaders from wit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strong, lasting organization to alter power relationships that lead failing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5FC-A12E-4EA8-A769-DDBA64FD16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organizing contribu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s in schools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graded school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leadership and staf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quality lear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sources &amp;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549-7C39-48E8-98EC-9823EA1086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relationships so those holding pow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 more willing to share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capacity of local school leaders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and share decision ma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n power base of families and community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ights of free speech, assembly, due proces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ccess to cou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governance policies to give parents and community members a voice on key iss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7440" y="16495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Key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9B6-7FC9-4B0E-B762-9E6E1B4253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rganiz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orts to Improve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7440" y="19810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Major F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ed initiatives are develop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low-income, urban areas and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ral so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have contributed to changes in policy, resources, personnel, school culture, and educational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039-A37A-4591-AE22-C727CACC4A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y of “Eviden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Grows (19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Continues to Grow (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Generation of Evidence: The Family is Critical to Student Achievement 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BBF-0CC8-4533-B7B7-CF54EE6BF5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commend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400" y="3441240"/>
            <a:ext cx="709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Putting Findings in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A65-0BC3-4CD1-964A-4659C91051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at ALL parents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and want their childr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well i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all families can help impro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children’s performance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in from blaming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370-0CA6-46C9-80DA-B0ED03BB0D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programs that will suppo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es to guide their children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K-High Schoo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Childhood Program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ding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groups with other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on stimulating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142-0CC8-4A70-85E2-3D31721A58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children’s lear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&amp; Middle School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active homework involving fami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r phone calls from teac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arning packets with instru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etings with teachers to talk about progr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chool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r meetings with teac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 about program options, testing, grad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 about financing postsecondary edu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lanations of courses of study to prepare for colle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213-FAC9-4079-97AD-A2213A33C1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families to build thei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d political conn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families’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childcare, transportation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amilies’ involvement in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amilies information about the edu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school to community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families in acti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e families to attend staff meetings &amp; trai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76E-87CA-478D-82B0-2A2D8B131E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the capacity of scho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to work with families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re-service &amp; in-servi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staff recognize advantages of school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, &amp; community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re how to develop relationships with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hance staff ability to work with diverse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 staff to make connections with community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034-DDDF-4D4F-A71B-35A6B2155D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family and commun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ment efforts to student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programs for parents to assist child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velopment of specific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an activ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ole 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materials &amp; advise on how to us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arents assess children’s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deas &amp; knowledge between after-school staff and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information on standards at ope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9A3-886D-474E-8E25-1CB518FD32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efforts to engage famil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mmunity remember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trusting and respectfu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s ar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 cultural and class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resources to buil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staff the resources and time to create and operate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B5A-ABE2-41EC-A874-09073FC570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race a philosophy of partnership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share power with fami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bed families in comprehensive scho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training for school decision-ma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n how to work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using parents and community me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ubberstamp”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5E3-86D1-4BCF-A65B-4F366C0760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strong connections betwe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community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community organizat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Boys &amp; Girls Club, YM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school to groups/agencies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amil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health care, family literacy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b training, recreation, social activ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with efforts to reach families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organizations including religious group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neighborhood walks, focus groups, meetings with politic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80A-FC92-4E71-9679-0851A5717F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west Educational Development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97040"/>
            <a:ext cx="6454800" cy="184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DL'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Free Publications by Subject - Community and Family Involvement in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87F-66E6-46D9-A042-3B2B111993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20400" y="2971800"/>
            <a:ext cx="64047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is “strong and stead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wing evidence that famili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improve their children’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ademic performance in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.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1754280"/>
            <a:ext cx="75852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e Evidence Continues to 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5AE-489C-471A-88BD-94FEB9FA32D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west Educational Development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ational Center for Family &amp; Community Connections with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931-427F-40EB-953B-F6E0100AA8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.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gaging Parents in Education: Lessons from Five Parental Information And Resource Centers-- Pg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FBE-EE88-4D4C-BBB4-47073AA2E65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3E8-CF4F-4817-9D84-44FB95C1940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cov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childhood through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as well as parent/famil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ourc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methodological, experimental, quasi-experimental, or correlation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that match the 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D92-6602-4A54-8901-4F8A11B162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Research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parent &amp; commun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ment on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strategies to connect school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es, &amp; communit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new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and community organizing effor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rove schoo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E5B-B479-4B38-A892-0883318D9E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2130480"/>
            <a:ext cx="777240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Head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E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arly Access to Success in Edu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PP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ome Instruction Program for Preschool Youngs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I Parent Outreach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eachers Involving Parent in School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grams in the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356-4F70-4B33-8595-AEAA94D40F6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Studies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of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vs. Schoo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-School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Use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and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Organizing/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564-A6F5-4E0E-A080-B6793116275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Parent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included involvement 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&amp;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ies used some vari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oyce  Epstein’s 6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ng w/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F76-6723-4E0B-B984-30577DA0B6A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 in learning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checking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ing about school and wh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a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ing school events &amp;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out-of-schoo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623-918E-491F-A47E-37BC7668407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4120" y="1809720"/>
            <a:ext cx="6188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arents are involved, regardl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ir income or background, stud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ore likely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n higher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 higher o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d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 well to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on to post second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762-E813-4B92-97BF-E69E00F220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tudent Achie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card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in advanc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test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in advanc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ratings of school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&amp;  health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/languag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F0A-05A9-4D8F-840C-C48190C3B58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ng-term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number of experiment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quasi-experiment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igorous standards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inherent in use of surve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nterviews/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“directionality” looking after the 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determine the “why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FD4-0568-41C4-B4A5-2352D16558D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condu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igorous and that uses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sensitive and empow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of invol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ifferent types of research to shed light on al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nd issues in this complex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information on practices to engage famili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uture federal data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d how family involvement is def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e a greater variety of forms of family and community eng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how families attempt to influence schools 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ome more inv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1828800"/>
            <a:ext cx="20574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forget to complete our online survey on the last sli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100-9056-43DD-A2FD-0158E0D170B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lick on the link below to take a short online survey. Type in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sswo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ve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ert lin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ducato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surv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sert lin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85720" cy="9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BC1-8165-49F0-8152-69CC75833BE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lease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omplete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valuation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6600" y="1984320"/>
            <a:ext cx="61308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ore information 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886200" cy="1586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19320" y="43434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35 Whitney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arwater, Florida   337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727-523-1130 or 800-825-57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: 727-523-8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fndf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106704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69F-64F0-45E8-B6AB-FDF4DFB1586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1B7-95DC-46A6-B94D-AC10A70F8B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772400" cy="40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the Quantity of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mpact on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ing the Scope of th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Strategies for 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Organizing Efforts to Impro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CC9-4B45-4E67-A3EA-1A90F4ADBD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B8F-67A4-4D64-B2EF-0642F3DC91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sitive Impa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Student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and convincing relationship between family involvement and benefits for students including improved academic achievement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. 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1240" y="272880"/>
            <a:ext cx="1910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960" y="218592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On the Whole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56E-4C22-45A9-A73E-8E9EDC0FB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20:27:26Z</dcterms:created>
  <dc:creator>Robert Childs</dc:creator>
  <dc:description/>
  <dc:language>en-US</dc:language>
  <cp:lastModifiedBy>remoteUser18</cp:lastModifiedBy>
  <dcterms:modified xsi:type="dcterms:W3CDTF">2007-09-13T14:04:59Z</dcterms:modified>
  <cp:revision>54</cp:revision>
  <dc:subject/>
  <dc:title>The Evidence Continues to Grow</dc:title>
</cp:coreProperties>
</file>